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7465000" cy="210677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r>
              <a:rPr b="0" lang="en-US" sz="161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fld id="{AD59919C-411B-4B50-A873-FC884C826F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ngle sided poster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fld id="{7F232695-4D2A-4F3C-97C4-E2D5260B73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117C-F682-4D80-8EA7-4FA5769CD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72720" y="843120"/>
            <a:ext cx="33717240" cy="351144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400" bIns="167400" anchor="ctr">
            <a:noAutofit/>
          </a:bodyPr>
          <a:p>
            <a:pPr indent="0" algn="ctr">
              <a:buNone/>
              <a:tabLst>
                <a:tab algn="l" pos="0"/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endParaRPr b="0" lang="en-US" sz="1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72720" y="4916520"/>
            <a:ext cx="33717240" cy="663156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400" bIns="167400" anchor="t">
            <a:normAutofit/>
          </a:bodyPr>
          <a:p>
            <a:pPr indent="0">
              <a:spcBef>
                <a:spcPts val="2925"/>
              </a:spcBef>
              <a:buNone/>
              <a:tabLst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endParaRPr b="0" lang="en-US" sz="1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72720" y="12178440"/>
            <a:ext cx="33717240" cy="663156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400" bIns="167400" anchor="t">
            <a:normAutofit/>
          </a:bodyPr>
          <a:p>
            <a:pPr indent="0">
              <a:spcBef>
                <a:spcPts val="2925"/>
              </a:spcBef>
              <a:buNone/>
              <a:tabLst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endParaRPr b="0" lang="en-US" sz="1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C603-C8D6-4CEB-BDC3-029E05752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72720" y="843120"/>
            <a:ext cx="33717240" cy="351144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400" bIns="167400" anchor="ctr">
            <a:noAutofit/>
          </a:bodyPr>
          <a:p>
            <a:pPr indent="0" algn="ctr">
              <a:buNone/>
              <a:tabLst>
                <a:tab algn="l" pos="0"/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endParaRPr b="0" lang="en-US" sz="1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72720" y="4916520"/>
            <a:ext cx="16453800" cy="663156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400" bIns="167400" anchor="t">
            <a:normAutofit/>
          </a:bodyPr>
          <a:p>
            <a:pPr indent="0">
              <a:spcBef>
                <a:spcPts val="2925"/>
              </a:spcBef>
              <a:buNone/>
              <a:tabLst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endParaRPr b="0" lang="en-US" sz="1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9149480" y="4916520"/>
            <a:ext cx="16453800" cy="663156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400" bIns="167400" anchor="t">
            <a:normAutofit/>
          </a:bodyPr>
          <a:p>
            <a:pPr indent="0">
              <a:spcBef>
                <a:spcPts val="2925"/>
              </a:spcBef>
              <a:buNone/>
              <a:tabLst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endParaRPr b="0" lang="en-US" sz="1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72720" y="12178440"/>
            <a:ext cx="16453800" cy="663156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400" bIns="167400" anchor="t">
            <a:normAutofit/>
          </a:bodyPr>
          <a:p>
            <a:pPr indent="0">
              <a:spcBef>
                <a:spcPts val="2925"/>
              </a:spcBef>
              <a:buNone/>
              <a:tabLst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endParaRPr b="0" lang="en-US" sz="1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9149480" y="12178440"/>
            <a:ext cx="16453800" cy="663156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400" bIns="167400" anchor="t">
            <a:normAutofit/>
          </a:bodyPr>
          <a:p>
            <a:pPr indent="0">
              <a:spcBef>
                <a:spcPts val="2925"/>
              </a:spcBef>
              <a:buNone/>
              <a:tabLst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endParaRPr b="0" lang="en-US" sz="1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C8AD-85F4-45FF-9BEB-885947DE2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72720" y="843120"/>
            <a:ext cx="33717240" cy="351144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400" bIns="167400" anchor="ctr">
            <a:noAutofit/>
          </a:bodyPr>
          <a:p>
            <a:pPr indent="0" algn="ctr">
              <a:buNone/>
              <a:tabLst>
                <a:tab algn="l" pos="0"/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endParaRPr b="0" lang="en-US" sz="1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72720" y="4916520"/>
            <a:ext cx="10856880" cy="663156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400" bIns="167400" anchor="t">
            <a:normAutofit/>
          </a:bodyPr>
          <a:p>
            <a:pPr indent="0">
              <a:spcBef>
                <a:spcPts val="2925"/>
              </a:spcBef>
              <a:buNone/>
              <a:tabLst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endParaRPr b="0" lang="en-US" sz="1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272840" y="4916520"/>
            <a:ext cx="10856880" cy="663156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400" bIns="167400" anchor="t">
            <a:normAutofit/>
          </a:bodyPr>
          <a:p>
            <a:pPr indent="0">
              <a:spcBef>
                <a:spcPts val="2925"/>
              </a:spcBef>
              <a:buNone/>
              <a:tabLst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endParaRPr b="0" lang="en-US" sz="1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672960" y="4916520"/>
            <a:ext cx="10856880" cy="663156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400" bIns="167400" anchor="t">
            <a:normAutofit/>
          </a:bodyPr>
          <a:p>
            <a:pPr indent="0">
              <a:spcBef>
                <a:spcPts val="2925"/>
              </a:spcBef>
              <a:buNone/>
              <a:tabLst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endParaRPr b="0" lang="en-US" sz="1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72720" y="12178440"/>
            <a:ext cx="10856880" cy="663156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400" bIns="167400" anchor="t">
            <a:normAutofit/>
          </a:bodyPr>
          <a:p>
            <a:pPr indent="0">
              <a:spcBef>
                <a:spcPts val="2925"/>
              </a:spcBef>
              <a:buNone/>
              <a:tabLst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endParaRPr b="0" lang="en-US" sz="1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3272840" y="12178440"/>
            <a:ext cx="10856880" cy="663156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400" bIns="167400" anchor="t">
            <a:normAutofit/>
          </a:bodyPr>
          <a:p>
            <a:pPr indent="0">
              <a:spcBef>
                <a:spcPts val="2925"/>
              </a:spcBef>
              <a:buNone/>
              <a:tabLst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endParaRPr b="0" lang="en-US" sz="1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672960" y="12178440"/>
            <a:ext cx="10856880" cy="663156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400" bIns="167400" anchor="t">
            <a:normAutofit/>
          </a:bodyPr>
          <a:p>
            <a:pPr indent="0">
              <a:spcBef>
                <a:spcPts val="2925"/>
              </a:spcBef>
              <a:buNone/>
              <a:tabLst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endParaRPr b="0" lang="en-US" sz="1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D640-7B1A-45DB-8EC1-ABEC6D7CB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72720" y="843120"/>
            <a:ext cx="33717240" cy="351144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400" bIns="167400" anchor="ctr">
            <a:noAutofit/>
          </a:bodyPr>
          <a:p>
            <a:pPr indent="0" algn="ctr">
              <a:buNone/>
              <a:tabLst>
                <a:tab algn="l" pos="0"/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endParaRPr b="0" lang="en-US" sz="1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72720" y="4916520"/>
            <a:ext cx="33717240" cy="139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925"/>
              </a:spcBef>
              <a:buNone/>
              <a:tabLst>
                <a:tab algn="l" pos="0"/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endParaRPr b="0" lang="en-US" sz="1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1E14-06BD-4BF9-9BDA-A1C18012E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72720" y="843120"/>
            <a:ext cx="33717240" cy="351144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400" bIns="167400" anchor="ctr">
            <a:noAutofit/>
          </a:bodyPr>
          <a:p>
            <a:pPr indent="0" algn="ctr">
              <a:buNone/>
              <a:tabLst>
                <a:tab algn="l" pos="0"/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endParaRPr b="0" lang="en-US" sz="1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72720" y="4916520"/>
            <a:ext cx="33717240" cy="1390320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400" bIns="167400" anchor="t">
            <a:normAutofit/>
          </a:bodyPr>
          <a:p>
            <a:pPr indent="0">
              <a:spcBef>
                <a:spcPts val="2925"/>
              </a:spcBef>
              <a:buNone/>
              <a:tabLst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endParaRPr b="0" lang="en-US" sz="1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F9F8-13BE-4A7F-AF53-03CCD57D4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72720" y="843120"/>
            <a:ext cx="33717240" cy="351144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400" bIns="167400" anchor="ctr">
            <a:noAutofit/>
          </a:bodyPr>
          <a:p>
            <a:pPr indent="0" algn="ctr">
              <a:buNone/>
              <a:tabLst>
                <a:tab algn="l" pos="0"/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endParaRPr b="0" lang="en-US" sz="1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72720" y="4916520"/>
            <a:ext cx="16453800" cy="1390320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400" bIns="167400" anchor="t">
            <a:normAutofit/>
          </a:bodyPr>
          <a:p>
            <a:pPr indent="0">
              <a:spcBef>
                <a:spcPts val="2925"/>
              </a:spcBef>
              <a:buNone/>
              <a:tabLst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endParaRPr b="0" lang="en-US" sz="1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9149480" y="4916520"/>
            <a:ext cx="16453800" cy="1390320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400" bIns="167400" anchor="t">
            <a:normAutofit/>
          </a:bodyPr>
          <a:p>
            <a:pPr indent="0">
              <a:spcBef>
                <a:spcPts val="2925"/>
              </a:spcBef>
              <a:buNone/>
              <a:tabLst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endParaRPr b="0" lang="en-US" sz="1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6C51-9C3B-45EC-BD49-F6168A8E7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72720" y="843120"/>
            <a:ext cx="33717240" cy="351144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400" bIns="167400" anchor="ctr">
            <a:noAutofit/>
          </a:bodyPr>
          <a:p>
            <a:pPr indent="0" algn="ctr">
              <a:buNone/>
              <a:tabLst>
                <a:tab algn="l" pos="0"/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endParaRPr b="0" lang="en-US" sz="1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85DD-159C-4DD9-821C-A32860566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72720" y="843120"/>
            <a:ext cx="33717240" cy="162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925"/>
              </a:spcBef>
              <a:tabLst>
                <a:tab algn="l" pos="0"/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endParaRPr b="0" lang="en-US" sz="1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88EF-D281-46D7-A716-1C920D154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72720" y="843120"/>
            <a:ext cx="33717240" cy="351144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400" bIns="167400" anchor="ctr">
            <a:noAutofit/>
          </a:bodyPr>
          <a:p>
            <a:pPr indent="0" algn="ctr">
              <a:buNone/>
              <a:tabLst>
                <a:tab algn="l" pos="0"/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endParaRPr b="0" lang="en-US" sz="1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72720" y="4916520"/>
            <a:ext cx="16453800" cy="663156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400" bIns="167400" anchor="t">
            <a:normAutofit/>
          </a:bodyPr>
          <a:p>
            <a:pPr indent="0">
              <a:spcBef>
                <a:spcPts val="2925"/>
              </a:spcBef>
              <a:buNone/>
              <a:tabLst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endParaRPr b="0" lang="en-US" sz="1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9149480" y="4916520"/>
            <a:ext cx="16453800" cy="1390320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400" bIns="167400" anchor="t">
            <a:normAutofit/>
          </a:bodyPr>
          <a:p>
            <a:pPr indent="0">
              <a:spcBef>
                <a:spcPts val="2925"/>
              </a:spcBef>
              <a:buNone/>
              <a:tabLst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endParaRPr b="0" lang="en-US" sz="1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72720" y="12178440"/>
            <a:ext cx="16453800" cy="663156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400" bIns="167400" anchor="t">
            <a:normAutofit/>
          </a:bodyPr>
          <a:p>
            <a:pPr indent="0">
              <a:spcBef>
                <a:spcPts val="2925"/>
              </a:spcBef>
              <a:buNone/>
              <a:tabLst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endParaRPr b="0" lang="en-US" sz="1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0C9F-2788-46EC-A577-5492BC16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72720" y="843120"/>
            <a:ext cx="33717240" cy="351144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400" bIns="167400" anchor="ctr">
            <a:noAutofit/>
          </a:bodyPr>
          <a:p>
            <a:pPr indent="0" algn="ctr">
              <a:buNone/>
              <a:tabLst>
                <a:tab algn="l" pos="0"/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endParaRPr b="0" lang="en-US" sz="1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72720" y="4916520"/>
            <a:ext cx="16453800" cy="1390320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400" bIns="167400" anchor="t">
            <a:normAutofit/>
          </a:bodyPr>
          <a:p>
            <a:pPr indent="0">
              <a:spcBef>
                <a:spcPts val="2925"/>
              </a:spcBef>
              <a:buNone/>
              <a:tabLst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endParaRPr b="0" lang="en-US" sz="1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9149480" y="4916520"/>
            <a:ext cx="16453800" cy="663156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400" bIns="167400" anchor="t">
            <a:normAutofit/>
          </a:bodyPr>
          <a:p>
            <a:pPr indent="0">
              <a:spcBef>
                <a:spcPts val="2925"/>
              </a:spcBef>
              <a:buNone/>
              <a:tabLst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endParaRPr b="0" lang="en-US" sz="1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9149480" y="12178440"/>
            <a:ext cx="16453800" cy="663156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400" bIns="167400" anchor="t">
            <a:normAutofit/>
          </a:bodyPr>
          <a:p>
            <a:pPr indent="0">
              <a:spcBef>
                <a:spcPts val="2925"/>
              </a:spcBef>
              <a:buNone/>
              <a:tabLst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endParaRPr b="0" lang="en-US" sz="1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5AC4-AC41-40CF-81D2-5ECFA0A3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72720" y="843120"/>
            <a:ext cx="33717240" cy="351144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400" bIns="167400" anchor="ctr">
            <a:noAutofit/>
          </a:bodyPr>
          <a:p>
            <a:pPr indent="0" algn="ctr">
              <a:buNone/>
              <a:tabLst>
                <a:tab algn="l" pos="0"/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endParaRPr b="0" lang="en-US" sz="1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72720" y="4916520"/>
            <a:ext cx="16453800" cy="663156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400" bIns="167400" anchor="t">
            <a:normAutofit/>
          </a:bodyPr>
          <a:p>
            <a:pPr indent="0">
              <a:spcBef>
                <a:spcPts val="2925"/>
              </a:spcBef>
              <a:buNone/>
              <a:tabLst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endParaRPr b="0" lang="en-US" sz="1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9149480" y="4916520"/>
            <a:ext cx="16453800" cy="663156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400" bIns="167400" anchor="t">
            <a:normAutofit/>
          </a:bodyPr>
          <a:p>
            <a:pPr indent="0">
              <a:spcBef>
                <a:spcPts val="2925"/>
              </a:spcBef>
              <a:buNone/>
              <a:tabLst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endParaRPr b="0" lang="en-US" sz="1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72720" y="12178440"/>
            <a:ext cx="33717240" cy="663156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400" bIns="167400" anchor="t">
            <a:normAutofit/>
          </a:bodyPr>
          <a:p>
            <a:pPr indent="0">
              <a:spcBef>
                <a:spcPts val="2925"/>
              </a:spcBef>
              <a:buNone/>
              <a:tabLst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endParaRPr b="0" lang="en-US" sz="1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BFEB-8D53-402C-81B9-AB0D5A8B4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5959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72720" y="843120"/>
            <a:ext cx="33717240" cy="351144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400" bIns="167400" anchor="ctr">
            <a:noAutofit/>
          </a:bodyPr>
          <a:p>
            <a:pPr indent="0" algn="ctr">
              <a:buNone/>
              <a:tabLst>
                <a:tab algn="l" pos="0"/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r>
              <a:rPr b="0" lang="en-US" sz="16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72720" y="4916520"/>
            <a:ext cx="33717240" cy="1390320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400" bIns="167400" anchor="t">
            <a:normAutofit fontScale="92000"/>
          </a:bodyPr>
          <a:p>
            <a:pPr marL="1153800" indent="-1153800">
              <a:spcBef>
                <a:spcPts val="2925"/>
              </a:spcBef>
              <a:buClr>
                <a:srgbClr val="000000"/>
              </a:buClr>
              <a:buFont typeface="Arial"/>
              <a:buChar char="•"/>
              <a:tabLst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1700" spc="-1" strike="noStrike">
              <a:solidFill>
                <a:srgbClr val="000000"/>
              </a:solidFill>
              <a:latin typeface="Calibri"/>
            </a:endParaRPr>
          </a:p>
          <a:p>
            <a:pPr lvl="1" marL="2498760" indent="-960840">
              <a:spcBef>
                <a:spcPts val="2925"/>
              </a:spcBef>
              <a:buClr>
                <a:srgbClr val="000000"/>
              </a:buClr>
              <a:buFont typeface="Arial"/>
              <a:buChar char="–"/>
              <a:tabLst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1700" spc="-1" strike="noStrike">
              <a:solidFill>
                <a:srgbClr val="000000"/>
              </a:solidFill>
              <a:latin typeface="Calibri"/>
            </a:endParaRPr>
          </a:p>
          <a:p>
            <a:pPr lvl="2" marL="3845520" indent="-768240">
              <a:spcBef>
                <a:spcPts val="2925"/>
              </a:spcBef>
              <a:buClr>
                <a:srgbClr val="000000"/>
              </a:buClr>
              <a:buFont typeface="Arial"/>
              <a:buChar char="•"/>
              <a:tabLst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1700" spc="-1" strike="noStrike">
              <a:solidFill>
                <a:srgbClr val="000000"/>
              </a:solidFill>
              <a:latin typeface="Calibri"/>
            </a:endParaRPr>
          </a:p>
          <a:p>
            <a:pPr lvl="3" marL="5383080" indent="-767880">
              <a:spcBef>
                <a:spcPts val="2925"/>
              </a:spcBef>
              <a:buClr>
                <a:srgbClr val="000000"/>
              </a:buClr>
              <a:buFont typeface="Arial"/>
              <a:buChar char="–"/>
              <a:tabLst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1700" spc="-1" strike="noStrike">
              <a:solidFill>
                <a:srgbClr val="000000"/>
              </a:solidFill>
              <a:latin typeface="Calibri"/>
            </a:endParaRPr>
          </a:p>
          <a:p>
            <a:pPr lvl="4" marL="6922440" indent="-767880">
              <a:spcBef>
                <a:spcPts val="2925"/>
              </a:spcBef>
              <a:buClr>
                <a:srgbClr val="000000"/>
              </a:buClr>
              <a:buFont typeface="Arial"/>
              <a:buChar char="»"/>
              <a:tabLst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1700" spc="-1" strike="noStrike">
              <a:solidFill>
                <a:srgbClr val="000000"/>
              </a:solidFill>
              <a:latin typeface="Calibri"/>
            </a:endParaRPr>
          </a:p>
          <a:p>
            <a:pPr lvl="5" marL="6922440" indent="-767880">
              <a:spcBef>
                <a:spcPts val="2925"/>
              </a:spcBef>
              <a:buClr>
                <a:srgbClr val="000000"/>
              </a:buClr>
              <a:buFont typeface="Arial"/>
              <a:buChar char="»"/>
              <a:tabLst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1700" spc="-1" strike="noStrike">
              <a:solidFill>
                <a:srgbClr val="000000"/>
              </a:solidFill>
              <a:latin typeface="Calibri"/>
            </a:endParaRPr>
          </a:p>
          <a:p>
            <a:pPr lvl="6" marL="6922440" indent="-767880">
              <a:spcBef>
                <a:spcPts val="2925"/>
              </a:spcBef>
              <a:buClr>
                <a:srgbClr val="000000"/>
              </a:buClr>
              <a:buFont typeface="Arial"/>
              <a:buChar char="»"/>
              <a:tabLst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73080" y="19526040"/>
            <a:ext cx="8740800" cy="112212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400" bIns="1674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  <a:defRPr b="0" lang="en-US" sz="4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r>
              <a:rPr b="0" lang="en-US" sz="44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799800" y="19526040"/>
            <a:ext cx="11863080" cy="112212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400" bIns="167400" anchor="ctr">
            <a:noAutofit/>
          </a:bodyPr>
          <a:p>
            <a:pPr indent="0">
              <a:buNone/>
              <a:tabLst>
                <a:tab algn="l" pos="0"/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849520" y="19526040"/>
            <a:ext cx="8740800" cy="1122120"/>
          </a:xfrm>
          <a:prstGeom prst="rect">
            <a:avLst/>
          </a:prstGeom>
          <a:noFill/>
          <a:ln w="0">
            <a:noFill/>
          </a:ln>
        </p:spPr>
        <p:txBody>
          <a:bodyPr lIns="334440" rIns="334440" tIns="167400" bIns="1674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  <a:defRPr b="0" lang="en-US" sz="4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fld id="{5FBC6C3A-33D5-4CB5-8FD3-5D0516AF9BE7}" type="slidenum">
              <a:rPr b="0" lang="en-US" sz="4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28364040" y="4994280"/>
            <a:ext cx="8727840" cy="15683040"/>
          </a:xfrm>
          <a:prstGeom prst="rect">
            <a:avLst/>
          </a:prstGeom>
          <a:solidFill>
            <a:srgbClr val="ffffff">
              <a:alpha val="8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39320" rIns="139320" tIns="69480" bIns="69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8997560" y="4994280"/>
            <a:ext cx="8729640" cy="15683040"/>
          </a:xfrm>
          <a:prstGeom prst="rect">
            <a:avLst/>
          </a:prstGeom>
          <a:solidFill>
            <a:srgbClr val="ffffff">
              <a:alpha val="8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39320" rIns="139320" tIns="69480" bIns="69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9899640" y="4994280"/>
            <a:ext cx="8728200" cy="15683040"/>
          </a:xfrm>
          <a:prstGeom prst="rect">
            <a:avLst/>
          </a:prstGeom>
          <a:solidFill>
            <a:srgbClr val="ffffff">
              <a:alpha val="8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39320" rIns="139320" tIns="69480" bIns="69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552600" y="4994280"/>
            <a:ext cx="8727840" cy="15754320"/>
          </a:xfrm>
          <a:prstGeom prst="rect">
            <a:avLst/>
          </a:prstGeom>
          <a:solidFill>
            <a:srgbClr val="ffffff">
              <a:alpha val="8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39320" rIns="139320" tIns="69480" bIns="69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7"/>
          <p:cNvSpPr/>
          <p:nvPr/>
        </p:nvSpPr>
        <p:spPr>
          <a:xfrm>
            <a:off x="2181240" y="6541920"/>
            <a:ext cx="6764400" cy="101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9320" rIns="139320" tIns="69480" bIns="69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roduction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terial and Methods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2"/>
          <p:cNvSpPr/>
          <p:nvPr/>
        </p:nvSpPr>
        <p:spPr>
          <a:xfrm>
            <a:off x="11910960" y="18613440"/>
            <a:ext cx="2793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9320" rIns="139320" tIns="69480" bIns="69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69"/>
          <p:cNvSpPr/>
          <p:nvPr/>
        </p:nvSpPr>
        <p:spPr>
          <a:xfrm>
            <a:off x="28663920" y="14592240"/>
            <a:ext cx="3995640" cy="7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9320" rIns="139320" tIns="69480" bIns="69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sion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74"/>
          <p:cNvSpPr/>
          <p:nvPr/>
        </p:nvSpPr>
        <p:spPr>
          <a:xfrm>
            <a:off x="28651320" y="15436800"/>
            <a:ext cx="81547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9320" rIns="139320" tIns="69480" bIns="694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9955080" y="4994280"/>
            <a:ext cx="8728200" cy="15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4760" rIns="374760" tIns="187200" bIns="18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ults and Discussions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43"/>
          <p:cNvSpPr/>
          <p:nvPr/>
        </p:nvSpPr>
        <p:spPr>
          <a:xfrm>
            <a:off x="5027760" y="2225520"/>
            <a:ext cx="26087400" cy="25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Victor Babes University of Medicine and Pharmacy, Department of Anatomy and Embryology, 2 Eftimie Murgu Sq., 300041, Timisoara, Roman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"/>
          <p:cNvSpPr/>
          <p:nvPr/>
        </p:nvSpPr>
        <p:spPr>
          <a:xfrm>
            <a:off x="17875080" y="974880"/>
            <a:ext cx="202932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r>
              <a:rPr b="1" lang="en-US" sz="6600" spc="-1" strike="noStrike">
                <a:solidFill>
                  <a:srgbClr val="c00000"/>
                </a:solidFill>
                <a:latin typeface="Arial"/>
                <a:ea typeface="Arial"/>
              </a:rPr>
              <a:t>Timisoara Morphological Days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Arial"/>
                <a:ea typeface="Arial"/>
              </a:rPr>
              <a:t>with international particip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671480"/>
                <a:tab algn="l" pos="3343320"/>
                <a:tab algn="l" pos="5014800"/>
                <a:tab algn="l" pos="6686640"/>
                <a:tab algn="l" pos="8358120"/>
                <a:tab algn="l" pos="1002996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Arial"/>
                <a:ea typeface="Arial"/>
              </a:rPr>
              <a:t>10-12 October 202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Imagine 6" descr="D:\ANA\1. CLIENTI\2020\UMFVBT\DE TRIMIS\Logo\Logo UMFT.png"/>
          <p:cNvPicPr/>
          <p:nvPr/>
        </p:nvPicPr>
        <p:blipFill>
          <a:blip r:embed="rId1"/>
          <a:stretch/>
        </p:blipFill>
        <p:spPr>
          <a:xfrm>
            <a:off x="157320" y="301680"/>
            <a:ext cx="9742320" cy="3019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28T19:07:22Z</dcterms:created>
  <dc:creator>ePB employee</dc:creator>
  <dc:description/>
  <dc:language>en-US</dc:language>
  <cp:lastModifiedBy>Windows User</cp:lastModifiedBy>
  <dcterms:modified xsi:type="dcterms:W3CDTF">2024-04-05T08:25:42Z</dcterms:modified>
  <cp:revision>52</cp:revision>
  <dc:subject/>
  <dc:title>PowerPoint Presentation</dc:title>
</cp:coreProperties>
</file>